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E48-E531-4A56-9F45-89A27F7F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3D1-ADBC-4FD7-B53B-9322B41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09D-1076-4C33-AA58-8E48A9BB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6B9-76EE-4CA4-B3BB-7662D188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508-0F55-4D12-8817-C7F57734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5DF-9B32-4E7C-8003-CE0E8184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4E9-FE5C-4679-9EF1-6B75602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52C-F43B-4E10-8FD4-7F4569C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99F-AF6C-4130-BE57-D91E84FD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05B-C3D9-4D3B-82A0-82C75B7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5AA-BB2D-467B-8B18-9FE63FC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224-7D17-4DE7-8DEF-29C2AF9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F85-A3E5-4EB7-8FE9-F7803B3BFF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080" y="1828800"/>
            <a:ext cx="67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mOR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457200" y="6858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24797"/>
          <a:stretch/>
        </p:blipFill>
        <p:spPr>
          <a:xfrm>
            <a:off x="609480" y="457200"/>
            <a:ext cx="8077320" cy="441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75216" r="0" b="12267"/>
          <a:stretch/>
        </p:blipFill>
        <p:spPr>
          <a:xfrm>
            <a:off x="609480" y="4876920"/>
            <a:ext cx="8077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25973"/>
          <a:stretch/>
        </p:blipFill>
        <p:spPr>
          <a:xfrm>
            <a:off x="609480" y="106668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91440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9638"/>
          <a:stretch/>
        </p:blipFill>
        <p:spPr>
          <a:xfrm>
            <a:off x="990720" y="380880"/>
            <a:ext cx="739116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5791320"/>
            <a:ext cx="7315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on? Can’t tell.    Confounding?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39442"/>
          <a:stretch/>
        </p:blipFill>
        <p:spPr>
          <a:xfrm>
            <a:off x="685800" y="12193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39442"/>
          <a:stretch/>
        </p:blipFill>
        <p:spPr>
          <a:xfrm>
            <a:off x="685800" y="3808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3418"/>
          <a:stretch/>
        </p:blipFill>
        <p:spPr>
          <a:xfrm>
            <a:off x="9907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1253"/>
          <a:stretch/>
        </p:blipFill>
        <p:spPr>
          <a:xfrm>
            <a:off x="9144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914400" y="53352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078"/>
          <a:stretch/>
        </p:blipFill>
        <p:spPr>
          <a:xfrm>
            <a:off x="762120" y="12952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2971800"/>
            <a:ext cx="769608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97180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9528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5078"/>
          <a:stretch/>
        </p:blipFill>
        <p:spPr>
          <a:xfrm>
            <a:off x="609480" y="457200"/>
            <a:ext cx="76964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609480" y="2133720"/>
            <a:ext cx="769644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2133720"/>
            <a:ext cx="35816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3505320"/>
            <a:ext cx="1676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4934" r="0" b="61472"/>
          <a:stretch/>
        </p:blipFill>
        <p:spPr>
          <a:xfrm>
            <a:off x="762120" y="1752480"/>
            <a:ext cx="7696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2895480"/>
            <a:ext cx="7696080" cy="19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289548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2670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4934" r="0" b="61472"/>
          <a:stretch/>
        </p:blipFill>
        <p:spPr>
          <a:xfrm>
            <a:off x="685800" y="762120"/>
            <a:ext cx="7696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685800" y="190512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190512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2767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8540" r="0" b="51496"/>
          <a:stretch/>
        </p:blipFill>
        <p:spPr>
          <a:xfrm>
            <a:off x="914400" y="16765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914400" y="2514600"/>
            <a:ext cx="769608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2514600"/>
            <a:ext cx="3809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43434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2860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8540" r="0" b="51496"/>
          <a:stretch/>
        </p:blipFill>
        <p:spPr>
          <a:xfrm>
            <a:off x="762120" y="91440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1752480"/>
            <a:ext cx="769608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752480"/>
            <a:ext cx="3810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3581280"/>
            <a:ext cx="1676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52388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0:12:57Z</dcterms:modified>
  <cp:revision>217</cp:revision>
  <dc:subject/>
  <dc:title>Slide 1</dc:title>
</cp:coreProperties>
</file>